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FA7-748E-4F1E-9D6E-8D65ABE55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AF2-180F-40C6-8C0E-CAD66BF85BC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539F-C176-4CF5-9EAF-A8BC47CE740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058D-A023-46DE-91B6-2291493D11DA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99D6-B5F9-4666-8252-0D17E248F57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5AE5-5668-414E-A22F-E5168941EB3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AFA-B0D1-4059-B412-1FE5E98625C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B361-B4BC-4D57-B060-B09FAA864870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8304-75A5-4B6F-9DBD-8A6E04DDAB1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C899-E1BD-403C-ADAE-D9AEFA29088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105-9359-4824-8662-A6E86B85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75F-405B-466D-B2DF-2F57E462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9E4-1755-4B21-A481-F9A93003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B1B-B729-46E2-BE63-8325F5F1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60CD-E244-40B2-B896-679857A2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F505-DBDD-459D-AE8E-837CD16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680F-28EB-476A-B88E-A6663B2E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53E-602D-47D3-BCF1-41ED0A9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05C-37D0-4511-A3A5-B8486847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03C-06FA-4079-B92A-8A80E087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A2CB-399C-4263-A4DB-EBB6F28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49B-8F9D-4841-B7C7-7ECC738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BEA3-897A-481C-8536-E873F57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B81E-AD35-463F-B826-AC756A2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E28F-E8A5-4390-A607-73B75255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1F10-22B9-45AA-853E-3E309806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9FE-6314-4974-B50A-F43722EF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C37E-6EC4-4357-9FBA-A4E2A8EF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C826-BC19-477C-81D5-A132163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0BAF-6EC8-42BC-830C-DC4C02A5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5AB0-703E-4E3D-BC83-CFD8A54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6BD3-0750-427F-841D-AA3724D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0C3-C421-4F93-B8E1-6877BF90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7BAF-4F97-4C51-B4A4-9540CA33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A387-BD75-4E17-B1C6-D17C911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2DD1-FBBD-4DB1-998C-1C1EF23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8C45-7E08-4EC1-A3D6-FF2CD26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C73F-69E5-4962-B33C-82A37DC8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10FB6-835C-4E52-A34E-48F2BB27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DF5F-9F22-4220-8381-435EE92C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DDF89-6866-4F8B-A18D-612998C6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D72E-D045-44A8-9D09-B1F9B804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6413-7E55-4F76-9D56-D39D3E30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C11-E303-40C0-8907-E32CAE5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DEFC-D6B5-43A3-A738-3011A24E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0727-A59B-4514-B3EB-FFC97245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58634-7B23-4D4C-A0D4-E312EF72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FF69-2879-4556-AB2E-672C998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6869-F1E5-4424-871A-E0973A0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A35D-239B-495D-B7B5-2CE32A1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4521-4E5B-40E2-887E-F096190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C800-0247-45B4-99B7-A2C73293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FC59-D886-4CDB-84B4-979032E6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B90D-CC4E-4B11-AEA0-64B18C70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A85-341F-4A4B-BEE3-AFF37EFA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5CB7-5B8A-4A0F-9D5C-B1974B5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9E79-81C7-4578-982F-858B38CF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D20D-CFBC-4D69-8B13-12EF38EE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BF46E-E69F-46E2-A0CD-CC5737EF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E695-EE02-4609-A3C0-587758FF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E797-5DE1-4A08-B31C-B0669DB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D1A8-A0B5-4CC0-80CC-CF9127B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8615-DD59-400B-8C47-9618DBB2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02F14-19FE-4C19-AE83-EF6FBE2E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70735-F7B9-4365-A87B-4C322CA7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EE1-27D5-40C9-842E-4377F3E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5A586-780E-4EB8-8C08-B32213E5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798D-0E7C-4F26-8DEF-E02E04FF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B044B-2D73-45E6-A164-164ED27C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8011-BE42-47EE-AEE4-75702C5F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3C55-7091-4044-A363-A27EFF24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9409-8EA8-4F49-866F-5C57D81D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EDF23-7406-4503-BA46-63F983CE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4E459-DBF4-4298-9D61-C261A5B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733D-9B32-417F-AABD-C5F1B57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74847-34E3-44AE-AEC5-0F105DAB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630-60BD-4037-A5E0-F5A96407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DDF6B-16F9-4A65-ABAC-4B18EA01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A8FEB-0C6C-4911-8CFB-59C54981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DC3C-6536-4580-B164-7DA222DD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B48BD-7005-4174-B06B-393FEB85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C49F-5C77-4AFB-B8FA-521663CA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56D8-E1A3-422C-B3FD-8842F277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89AEA-093B-4018-9CD1-6F2A846C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42305-EF71-4EB2-9B20-7079D4CE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E7F9-0BC7-46A2-8A09-A6432F16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C4604-A877-4828-B6A5-FB674C5E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456-AC26-41F4-AF2D-88ADA55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A33A4-8D2F-434C-812D-6144E55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1AE20-1CBB-4BEA-8649-DB8D1B78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4A13C-5B7B-4FAD-9D99-696AF9F3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1F7A8-C25E-4BC4-A524-F8DC1FA3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6AF7-AE5C-4E48-92EB-9DFDB8A6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8064-76B4-4951-B067-4BAE15B0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3323C-33F0-4969-AE7B-F520556F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4B1B-01D4-48D9-8896-A0633F58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4846-DB44-470A-8AEF-AA3C800C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C5F6A-71EF-4189-9D53-675C8CB7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C23-62EA-488E-8E19-0BA1F12C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73809-762D-4DE4-90F1-25B97D65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7AEC8-F196-47D5-A1EB-D897343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9A5D-3149-47A8-839E-D9A0CA38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6D3B-1A11-4F74-80BC-763E4D83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7714F-A510-4676-8E16-FDB0FE38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C17E8-AE3B-407E-86BB-FF84DCF4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D554-0A2D-490A-8321-0780F8BC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713-7BB1-4566-8A6C-1ED59F2624A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A0A4-714D-49ED-9627-EDAD666E1E6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B83B-0ED2-4D3F-A7A3-1B7FF1E5A56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4D7-0C05-4235-8C9D-87F1D55C9CA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D1AB-D9D2-4CDC-B7B2-FE7C4F10E89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A16A-B6A7-48CF-8349-0E90994320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40B-C8D4-4BFE-B4C3-D5E3EF517A7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5FA-5850-45AC-95FE-F9F05CD17D8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in Qualitative Research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Shahaduz Zaman Ph.D.</a:t>
            </a:r>
            <a:br>
              <a:rPr sz="2800"/>
            </a:b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Newcastle University, UK </a:t>
            </a:r>
            <a:br>
              <a:rPr sz="28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0189-DA80-42A7-9DE0-63E253AB6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e siz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9D93-EB83-4BC6-95B4-841317180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any is enough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nough to do justice to the subject, no more, no les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01F-0878-4B1C-934C-C19577A54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minutes interview with 200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s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0 hours interview with 2 peopl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26E-85D6-49BC-B807-5EBF8A7BA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ud’s ground breaking theory ‘Psychoanalysis’ 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d on 10 ca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udied over 5 years</a:t>
            </a:r>
            <a:br>
              <a:rPr sz="3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ule of the thumb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57C-CDAE-45CD-97D5-61F8F8AD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fficienc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Covering maximum variety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of respondents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tu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Point of redundancy in response</a:t>
            </a:r>
            <a:br>
              <a:rPr sz="3200"/>
            </a:b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8D41-0EE9-436D-BCB0-D51864C78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ple determination is influenced by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Homogeneity of the group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Nature and experience of the researcher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3A9A-489F-4A23-AFD7-E3B12B77C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phenomenological Studie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t least 6 interview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grounded theory Stud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12 interviews in each category 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Greg Guest, Arwen Bunce and Laura Johnson (2006) Field Methods (18, 59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Sampl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E4E0-A8F3-40AC-B4EE-D62EC04E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arge samples selected random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e should be representative of some larger population to which one hopes to generalize research fin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depth, small samples selected purposive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ampling driven by the desire to illuminate questions under study, and to increase the scope or range of data expo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rgbClr val="9fb8cd"/>
                </a:solidFill>
                <a:latin typeface="Gill Sans MT"/>
              </a:rPr>
              <a:t>Qualitati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FAC1-717F-4058-923E-E6A34FD36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egins with a relatively fixed theory, eg. An explanation for something that is to be tested. Theory tested in context of random sample, using large enough </a:t>
            </a:r>
            <a:r>
              <a:rPr b="0" i="1" lang="en-GB" sz="3600" spc="-1" strike="noStrike">
                <a:solidFill>
                  <a:srgbClr val="000000"/>
                </a:solidFill>
                <a:latin typeface="Gill Sans MT"/>
              </a:rPr>
              <a:t>N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monstrate statistical significanc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gins with ‘flexible’ theory, allowing for further revision/ decision regarding boundary of investigation, follows a process such as what data sources are ‘rich’, who should I talk to, what should I look at first. As research progresses, ask what data sources may confirm my understanding (theory) or challen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mpling Strategies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5DB4-9A0D-47AF-972F-CEF0938C1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ximum var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heory based: Sampling in focused manner, based on a priory theory being evalu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firming/Disconfirming c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xtreme or deviant cas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ratified purposefu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nowball/Chain Samp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96B6-A13F-42A6-BB46-0FCCEEC2E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4" descr="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038E-4795-4F6B-980F-E7B80E7FA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Diagram 5"/>
          <p:cNvGrpSpPr/>
          <p:nvPr/>
        </p:nvGrpSpPr>
        <p:grpSpPr>
          <a:xfrm>
            <a:off x="1044360" y="171360"/>
            <a:ext cx="7870680" cy="5091120"/>
            <a:chOff x="1044360" y="171360"/>
            <a:chExt cx="7870680" cy="5091120"/>
          </a:xfrm>
        </p:grpSpPr>
        <p:sp>
          <p:nvSpPr>
            <p:cNvPr id="363" name="_s1028"/>
            <p:cNvSpPr/>
            <p:nvPr/>
          </p:nvSpPr>
          <p:spPr>
            <a:xfrm>
              <a:off x="1044360" y="1597680"/>
              <a:ext cx="4885560" cy="3664800"/>
            </a:xfrm>
            <a:prstGeom prst="donut">
              <a:avLst>
                <a:gd name="adj" fmla="val 16666"/>
              </a:avLst>
            </a:prstGeom>
            <a:solidFill>
              <a:srgbClr val="4646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_s1029"/>
            <p:cNvSpPr/>
            <p:nvPr/>
          </p:nvSpPr>
          <p:spPr>
            <a:xfrm>
              <a:off x="7613640" y="180000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1030"/>
            <p:cNvSpPr/>
            <p:nvPr/>
          </p:nvSpPr>
          <p:spPr>
            <a:xfrm>
              <a:off x="1857240" y="2207160"/>
              <a:ext cx="3256920" cy="2442600"/>
            </a:xfrm>
            <a:prstGeom prst="donut">
              <a:avLst>
                <a:gd name="adj" fmla="val 25000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7613640" y="98568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ig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1032"/>
            <p:cNvSpPr/>
            <p:nvPr/>
          </p:nvSpPr>
          <p:spPr>
            <a:xfrm>
              <a:off x="2673000" y="2819160"/>
              <a:ext cx="1628280" cy="1221840"/>
            </a:xfrm>
            <a:prstGeom prst="ellipse">
              <a:avLst/>
            </a:prstGeom>
            <a:solidFill>
              <a:srgbClr val="b292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_s1033"/>
            <p:cNvSpPr/>
            <p:nvPr/>
          </p:nvSpPr>
          <p:spPr>
            <a:xfrm>
              <a:off x="7613640" y="171360"/>
              <a:ext cx="1301400" cy="813960"/>
            </a:xfrm>
            <a:noFill/>
            <a:ln w="9360">
              <a:solidFill>
                <a:srgbClr val="dde9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mp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C034-435B-469A-A04E-9460EC55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rposive sampling should never be confused with sampling for convenienc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Features of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E86D-A063-44B1-8399-07584A512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Qualitative sampling is systematic but flex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uided by clear research ques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evolves as the study progres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7C42-71F6-47F8-BD55-E0884794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ample units are selected serially. Who and what comes next depends on who and what comes befor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election continues to the point of redundancy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alitative samp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9C6D-9753-459B-9893-638CEA5C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process (Plan-Revis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agmatic (Time, money, personn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 considerations explicit/Justify what has been d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arning in qualitative sampling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C6EB-00D1-4FC3-B6C2-7FADE60C4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too 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selecting the exotic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fitting researchers ideal percep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es qualitative research present bias result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the Generalizibility  of qualitative research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en-US" sz="3100" spc="-1" strike="noStrike">
                <a:solidFill>
                  <a:srgbClr val="464653"/>
                </a:solidFill>
                <a:latin typeface="Bookman Old Style"/>
              </a:rPr>
              <a:t>Biases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ective Instru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server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lec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formation b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ffect of observ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Bias is (partly) unavoidabl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Bookman Old Style"/>
              </a:rPr>
              <a:t>Dealing with bias in  Qualitative research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ferabil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Bookman Old Style"/>
              </a:rPr>
              <a:t>Types of triangulation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metho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resear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iangulation of perspecti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image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Quantitative Sampling : Random Sampling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1CBC-C614-4421-95F2-9E26821E5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e that is representative in a statistical way of the whole population of intere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which each member of the population has an equal chances of being sel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Objectivity vs Reflexiv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ject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term generally implies maintaining distance between the observer and the observed and minimizing any possible influence of the researchers value on the process of inqui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Reflexivity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way of knowing that even as a co- participant in the inquiry the researcher has maintained the distinction between personal values and those of the participants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t suggests that there is a middle ground between becoming too involved which can cloud judgment, and remaining too distant, which can reduce understand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flexiv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earcher’s critical self awareness -is a vital process in which you question and observe yourself at the same time you listen to and observe the participan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53"/>
                </a:solidFill>
                <a:latin typeface="Bookman Old Style"/>
              </a:rPr>
              <a:t>Generalizibility</a:t>
            </a:r>
            <a:endParaRPr b="0" lang="en-US" sz="2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t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tistical Generaliz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tural Generalization (Transferability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64653"/>
                </a:solidFill>
                <a:latin typeface="Bookman Old Style"/>
              </a:rPr>
              <a:t>Generalizibility vs Transferability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izi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findings of the research can be generalized to the wider population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2288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ransfer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the conclusions of a study are transferable to other contex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Qualitative Sampling: Purposive 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6D86-9A53-4FEE-9BC9-338823564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contrast to random sampling, </a:t>
            </a:r>
            <a:r>
              <a:rPr b="1" i="1" lang="en-US" sz="2800" spc="-1" strike="noStrike">
                <a:solidFill>
                  <a:srgbClr val="000000"/>
                </a:solidFill>
                <a:latin typeface="Gill Sans MT"/>
              </a:rPr>
              <a:t>information rich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cases are selected according to the purpose of the stud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 order to get a holistic picture sampling  includes a serious search for both positive and negative cas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eoretical Sampl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tto of qualitative sampl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9EEB-E3E8-4FD3-8699-DF2AC674B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mall is beautifu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ot about little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64653"/>
                </a:solidFill>
                <a:latin typeface="Bookman Old Style"/>
              </a:rPr>
              <a:t>Aim of sampling in qualitative research 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ECF3-B6D5-44D2-8BAA-154052E0D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he primary purpose of sampling is to collect specific cases, events, or actions that can clarify and deepen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FCBB-8524-49FD-906B-FFD372D76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dth Versus Dep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er range of experiences for a smaller number of peopl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ampling uni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D2A-BA25-4874-8568-1B51DFC5A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ntitative Sampling samples peop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alitative Sampling samples people, time, site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5AE5-FB00-444A-AAF0-4FF7868AB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people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 cas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iant case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s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mpling ti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y/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ason/Personal occurrence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1:02:25Z</dcterms:created>
  <dc:creator>Neeor</dc:creator>
  <dc:description/>
  <dc:language>en-US</dc:language>
  <cp:lastModifiedBy>Zaman</cp:lastModifiedBy>
  <dcterms:modified xsi:type="dcterms:W3CDTF">2013-12-11T21:12:33Z</dcterms:modified>
  <cp:revision>37</cp:revision>
  <dc:subject/>
  <dc:title>Selecting Unit of Study Sampling</dc:title>
</cp:coreProperties>
</file>